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3A63-F96E-4C22-80F1-1A2AC23EA2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403308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E4D64-2D8D-49CB-8F5B-CAC1F0FC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B39D-3360-4E55-8C7C-A7D2D1B8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F01F-2233-47B4-98FB-21204AE9E0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0575B-C04C-4683-A4BD-73F266F3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9A30F-47EE-4D2D-9650-1691B51A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CDE0A-EAB3-4D12-BC9A-9C8D0C43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D9FEA-F070-4F5E-AD9A-5447B334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28DEC-CDA2-49B1-A104-3F9E5EB9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815840" y="274680"/>
            <a:ext cx="71816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BBE8D-D55C-4001-986F-A0F3C6EF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057E3-110B-4587-9242-8A1492B8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A1C0-CC30-4A56-9987-FEBEE678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634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49593-6477-4C97-B533-B7B8719A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003C1-291D-4D72-A889-2CE6BE39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000" y="403308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B928E-F3C3-4636-955F-72667936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634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AF406-37C7-4CCA-8163-5FFE1972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500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50964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524280" y="4033080"/>
            <a:ext cx="2870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2D8EF-17EE-47C1-8727-A0251887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FB40-1733-4FBD-B369-BC19CF2C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B9043-919B-4C65-9319-2C66DFE2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22A6-9367-4224-899F-FDE009EE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15840" y="274680"/>
            <a:ext cx="71816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027A2-86C4-4E78-B120-BE71914B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A58F-F3E9-40A8-948D-39805AC4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403308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AD8B-2E24-4C17-BF3C-DCDABF52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4033080"/>
            <a:ext cx="89154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500D-538E-4A8E-A106-6AEA9564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919800" cy="911520"/>
            <a:chOff x="0" y="285480"/>
            <a:chExt cx="99198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9169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897000" y="285120"/>
              <a:ext cx="60141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636660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90612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00" y="1235160"/>
            <a:ext cx="989316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Untitled-1 copy" descr=""/>
          <p:cNvPicPr/>
          <p:nvPr/>
        </p:nvPicPr>
        <p:blipFill>
          <a:blip r:embed="rId2"/>
          <a:stretch/>
        </p:blipFill>
        <p:spPr>
          <a:xfrm>
            <a:off x="272880" y="382680"/>
            <a:ext cx="78120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Untitled-1 copy" descr=""/>
          <p:cNvPicPr/>
          <p:nvPr/>
        </p:nvPicPr>
        <p:blipFill>
          <a:blip r:embed="rId3"/>
          <a:stretch/>
        </p:blipFill>
        <p:spPr>
          <a:xfrm>
            <a:off x="1054080" y="765000"/>
            <a:ext cx="38880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95360" y="6476760"/>
            <a:ext cx="2311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d528d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d528d"/>
                </a:solidFill>
                <a:latin typeface="Times New Roman"/>
                <a:ea typeface="SimSu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7098840" y="6476760"/>
            <a:ext cx="2311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d528d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73DF-C4C8-48A2-B8D2-911052EB7446}" type="slidenum">
              <a:rPr b="0" lang="zh-CN" sz="1400" spc="-1" strike="noStrike">
                <a:solidFill>
                  <a:srgbClr val="1d528d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520" y="2394000"/>
          <a:ext cx="983484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520" y="2394000"/>
                    <a:ext cx="983484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38160" y="4292640"/>
            <a:ext cx="9829440" cy="2521080"/>
            <a:chOff x="38160" y="4292640"/>
            <a:chExt cx="9829440" cy="2521080"/>
          </a:xfrm>
        </p:grpSpPr>
        <p:sp>
          <p:nvSpPr>
            <p:cNvPr id="51" name=""/>
            <p:cNvSpPr/>
            <p:nvPr/>
          </p:nvSpPr>
          <p:spPr>
            <a:xfrm>
              <a:off x="38160" y="4292640"/>
              <a:ext cx="982944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160" y="4292640"/>
              <a:ext cx="982944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8160" y="44280"/>
            <a:ext cx="982980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-5400" y="0"/>
            <a:ext cx="9910800" cy="6857280"/>
            <a:chOff x="-5400" y="0"/>
            <a:chExt cx="9910800" cy="6857280"/>
          </a:xfrm>
        </p:grpSpPr>
        <p:sp>
          <p:nvSpPr>
            <p:cNvPr id="55" name=""/>
            <p:cNvSpPr/>
            <p:nvPr/>
          </p:nvSpPr>
          <p:spPr>
            <a:xfrm>
              <a:off x="41400" y="38160"/>
              <a:ext cx="982296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0" y="0"/>
              <a:ext cx="4950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191000">
              <a:off x="-63360" y="6381720"/>
              <a:ext cx="533520" cy="4158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768800">
              <a:off x="9491400" y="6399000"/>
              <a:ext cx="3988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9429120" y="-18720"/>
              <a:ext cx="457200" cy="4950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5120" y="990360"/>
            <a:ext cx="8420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d528d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d528d"/>
                </a:solidFill>
                <a:latin typeface="Times New Roman"/>
                <a:ea typeface="SimSu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d528d"/>
                </a:solidFill>
                <a:latin typeface="Times New Roman"/>
                <a:ea typeface="SimSu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d528d"/>
                </a:solidFill>
                <a:latin typeface="Times New Roman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d528d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A04E-A6B5-4243-84C7-1FCBA88ED5CB}" type="slidenum">
              <a:rPr b="0" lang="zh-CN" sz="1400" spc="-1" strike="noStrike">
                <a:solidFill>
                  <a:srgbClr val="1d528d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689200" y="2895480"/>
            <a:ext cx="2923920" cy="1041480"/>
            <a:chOff x="2689200" y="2895480"/>
            <a:chExt cx="2923920" cy="1041480"/>
          </a:xfrm>
        </p:grpSpPr>
        <p:pic>
          <p:nvPicPr>
            <p:cNvPr id="65" name="Untitled-1 copy" descr=""/>
            <p:cNvPicPr/>
            <p:nvPr/>
          </p:nvPicPr>
          <p:blipFill>
            <a:blip r:embed="rId4"/>
            <a:stretch/>
          </p:blipFill>
          <p:spPr>
            <a:xfrm>
              <a:off x="4092480" y="2895480"/>
              <a:ext cx="101484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Untitled-1 copy" descr=""/>
            <p:cNvPicPr/>
            <p:nvPr/>
          </p:nvPicPr>
          <p:blipFill>
            <a:blip r:embed="rId5"/>
            <a:stretch/>
          </p:blipFill>
          <p:spPr>
            <a:xfrm>
              <a:off x="5185080" y="3541680"/>
              <a:ext cx="4280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Untitled-1 copy" descr=""/>
            <p:cNvPicPr/>
            <p:nvPr/>
          </p:nvPicPr>
          <p:blipFill>
            <a:blip r:embed="rId6"/>
            <a:stretch/>
          </p:blipFill>
          <p:spPr>
            <a:xfrm>
              <a:off x="2689200" y="3327480"/>
              <a:ext cx="62388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92160" y="404280"/>
            <a:ext cx="769464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Data Protection Act (1984, 199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001000" y="304920"/>
            <a:ext cx="1295280" cy="1904760"/>
            <a:chOff x="8001000" y="304920"/>
            <a:chExt cx="1295280" cy="1904760"/>
          </a:xfrm>
        </p:grpSpPr>
        <p:sp>
          <p:nvSpPr>
            <p:cNvPr id="107" name=""/>
            <p:cNvSpPr/>
            <p:nvPr/>
          </p:nvSpPr>
          <p:spPr>
            <a:xfrm>
              <a:off x="8001000" y="304920"/>
              <a:ext cx="1295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8155080" y="448560"/>
              <a:ext cx="987120" cy="161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Data Protection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9258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many organisations which hold personal information about individual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Loyalty Card Scheme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Doctor / Dentist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Bank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56FC5-A37D-40B1-825F-81B29A96C8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Data Protection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92581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The Data Protection Act (1998) states that organisations which store personal information must register and state the purpose for which they need the informatio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4A89-E0F9-46E8-9E3C-6D11563BB4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Data Protection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92581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ATA CONTROLLER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e people and organisations who store and process personal data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Verdana"/>
              </a:rPr>
              <a:t>DATA SUBJECT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e people on whom data is being stored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B93D-9E07-4527-ABDC-D188C116D5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Data Protection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92581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DATA MUST BE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Processed fairly and lawfully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Processed for limited purpose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Adequate, relevant and not excessiv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Accurat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Not kept longer than necessary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Processed in accordance with the data subjects’ right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Kept secur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  <a:ea typeface="SimSun"/>
              </a:rPr>
              <a:t>Not transferred to any country outside the EU without similar legislation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1C521-48E2-4C72-8068-212D393ABD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Data Protection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92581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THE INDIVIDUAL HAS THE RIGHT TO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View the data stored about them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Have the data changed if it is incorrec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There is usually a fee of £10 to be paid to view your record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You have to provide proof of identity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You should receive an answer within 40 day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EE8B0-C160-4300-A604-842D8FCFC1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Data Protection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92581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THERE ARE EXCEPTION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You cannot see data being held on you if it is being collected to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Prevent a crim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Ensure National Security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Calculating Taxes and V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842D-9647-44C0-AFAB-44B2A6957C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1584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Data Protection 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92581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EXEMPTIONS FROM THE ACT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Some organisations do not have to register to hold data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Not for profit chariti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Data held for personal or family us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Data held to calculate wages or taxatio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  <a:ea typeface="SimSun"/>
              </a:rPr>
              <a:t>Sports clubs (if not a limited company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75D9F-C950-455B-9D66-AAD2E90621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21:52:11Z</dcterms:created>
  <dc:creator/>
  <dc:description/>
  <cp:keywords/>
  <dc:language>en-US</dc:language>
  <cp:lastModifiedBy>Hellen_hnd</cp:lastModifiedBy>
  <dcterms:modified xsi:type="dcterms:W3CDTF">2007-03-02T10:00:37Z</dcterms:modified>
  <cp:revision>1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412052</vt:lpwstr>
  </property>
</Properties>
</file>